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ED78-2940-4047-8999-A6763EB84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yparo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7D6-08A7-4007-834F-6CC383BCB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96E-3D56-4AD6-842E-802DBA775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4285-C8D2-4DDE-917A-C457C53879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519-8C4F-48D1-BE78-E043B4D0F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14F-D364-4C82-B8B5-086B559ED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B872-91E2-4025-9A0E-19AB0DC28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D95C-86C9-447B-A34F-D8C1658B6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FB2-0DD3-4270-8069-9D2E84439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2C6-9135-4B21-94E9-FA7A4DE8F0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43E-8B90-4BDE-8939-C71227564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CE2-1842-4DF1-A522-97B7F6781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141-F36A-4ADE-9F3A-B5D1126C1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404-0B8B-4148-ACFF-9DAA2DB37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C77-141B-44F7-964D-5B42C7585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F97-8170-49D2-AAD7-77F5BB56B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2AB-B0F2-4BF6-A3AB-F4D2FA263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5201-6A0E-4A59-87FD-A6C964E8A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E689-A89A-4BA8-8D00-9311F3C378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B3F-FCFF-46C8-9015-EFE7A3C0C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62AF-177A-437A-AB2B-9FD8712FC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DC6-07CE-485E-8B2E-02FBA1728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25C-E5D7-4DDF-8D3D-9700BC08C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D067-7554-453E-A055-EF63196A9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F0E5-9628-491F-B61A-D79A6AA9D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DA8A-605C-44E9-9CBE-AE5716942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33B-9362-4EBA-858E-9CA0921940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198A-68AE-496A-8264-20BEFA842A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CC4-F8A8-4DF2-BFDE-68051F4C7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6621-0B19-42DE-9E6D-1D73566BCB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C966-8F91-459C-B848-801803A7D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D827-1D44-4CAD-818A-4FDD57279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78B-1AE5-491B-8C97-5BDA5B4ED9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69DF-B6E3-416F-8A98-ED76C1BC9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7AB-F442-484D-A5FA-3ADC68208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A41-2D3C-448F-9FC5-7868530A4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42F-3079-4A9E-B226-99625808D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D0D1-A65B-4EB4-B068-E022BB07F0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25D0-D820-4C01-B38A-E7893E239C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99BA-9FC8-4999-A69D-47D09C6F1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367-6F3C-4536-AD88-7BF628A48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69B9-F23C-469C-B1D3-1B931BFE8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33B-A534-4738-8143-76B297F97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8715-2E24-4EA4-9794-E48A329F3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9BA5-6750-49BD-875C-801FABD6F0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215B-E7C7-4D6F-86ED-7DCA6E3FA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C43C-435B-417F-A583-A2B8CCEAF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E42-860A-4E83-9A66-7EB74072CE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2CC2-5E5F-43EB-BDBE-440166BC3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B34-0907-465A-B2CF-ED35A2CFB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5C92-B0DD-47F1-B6A9-24A3255C6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231-D92F-40C1-99FA-291C9F3E1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C741-BB2F-43BE-ACA8-ABB4A3EB5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6E34-AA3B-4D5A-ADD6-2593588167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45A-B021-47C0-83D2-AC3F55743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6DAB-E3A7-48CD-A1F8-7F567E7E3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8E35-8ADD-4418-BC90-9342224A2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E83-1F37-4A8C-9195-F7CB9A051C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19D-17E5-47F8-AF86-CAC802E74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7B9-B3EB-40F2-87E8-A3BA330DE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0CE-B54E-44A1-974F-F9289C46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C13-AFAC-4B31-8ACD-8CE83062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A63-72A8-473B-86B9-615F8A40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B7E-2114-4326-A32A-F265BDCE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B79-381D-4912-80EE-43B5AC1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0F5-6D34-40C0-8EAA-7068694B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09F-4C08-4ED2-804E-C69CD94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5AF-AC19-47EF-AC8E-370668E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350-4B51-45E4-955D-9DDFD172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CF8-0F9F-45BC-8D52-EBC599A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416-1A13-436B-8D1F-CEF8DDE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C79-730C-4157-9AC0-C9E5F9E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23720" y="438120"/>
            <a:ext cx="8269560" cy="5988240"/>
          </a:xfrm>
          <a:prstGeom prst="rect">
            <a:avLst/>
          </a:prstGeom>
          <a:solidFill>
            <a:srgbClr val="0000cc">
              <a:alpha val="23000"/>
            </a:srgbClr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EFA9-CEED-4F12-96F3-C8D6B96C4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yparody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7960" y="225360"/>
            <a:ext cx="8653680" cy="636120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17.xml"/><Relationship Id="rId3" Type="http://schemas.openxmlformats.org/officeDocument/2006/relationships/slide" Target="slide23.xml"/><Relationship Id="rId4" Type="http://schemas.openxmlformats.org/officeDocument/2006/relationships/slide" Target="slide54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47.xml"/><Relationship Id="rId8" Type="http://schemas.openxmlformats.org/officeDocument/2006/relationships/slide" Target="slide40.xml"/><Relationship Id="rId9" Type="http://schemas.openxmlformats.org/officeDocument/2006/relationships/slide" Target="slide45.xml"/><Relationship Id="rId10" Type="http://schemas.openxmlformats.org/officeDocument/2006/relationships/slide" Target="slide34.xml"/><Relationship Id="rId11" Type="http://schemas.openxmlformats.org/officeDocument/2006/relationships/slide" Target="slide19.xml"/><Relationship Id="rId12" Type="http://schemas.openxmlformats.org/officeDocument/2006/relationships/slide" Target="slide26.xml"/><Relationship Id="rId13" Type="http://schemas.openxmlformats.org/officeDocument/2006/relationships/slide" Target="slide6.xml"/><Relationship Id="rId14" Type="http://schemas.openxmlformats.org/officeDocument/2006/relationships/slide" Target="slide9.xml"/><Relationship Id="rId15" Type="http://schemas.openxmlformats.org/officeDocument/2006/relationships/slide" Target="slide21.xml"/><Relationship Id="rId16" Type="http://schemas.openxmlformats.org/officeDocument/2006/relationships/slide" Target="slide15.xml"/><Relationship Id="rId17" Type="http://schemas.openxmlformats.org/officeDocument/2006/relationships/slide" Target="slide32.xml"/><Relationship Id="rId18" Type="http://schemas.openxmlformats.org/officeDocument/2006/relationships/slide" Target="slide49.xml"/><Relationship Id="rId19" Type="http://schemas.openxmlformats.org/officeDocument/2006/relationships/slide" Target="slide28.xml"/><Relationship Id="rId20" Type="http://schemas.openxmlformats.org/officeDocument/2006/relationships/slide" Target="slide52.xml"/><Relationship Id="rId21" Type="http://schemas.openxmlformats.org/officeDocument/2006/relationships/slide" Target="slide30.xml"/><Relationship Id="rId22" Type="http://schemas.openxmlformats.org/officeDocument/2006/relationships/slide" Target="slide43.xml"/><Relationship Id="rId23" Type="http://schemas.openxmlformats.org/officeDocument/2006/relationships/slide" Target="slide56.xml"/><Relationship Id="rId24" Type="http://schemas.openxmlformats.org/officeDocument/2006/relationships/slide" Target="slide36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Picture1"/>
          <p:cNvPicPr/>
          <p:nvPr/>
        </p:nvPicPr>
        <p:blipFill>
          <a:blip r:embed="rId1"/>
          <a:stretch/>
        </p:blipFill>
        <p:spPr>
          <a:xfrm>
            <a:off x="1028880" y="957240"/>
            <a:ext cx="7084800" cy="4943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>
            <a:off x="914400" y="1828800"/>
            <a:ext cx="664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yparody"/>
              </a:rPr>
              <a:t>Trivia!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yparody"/>
              <a:ea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TPChart"/>
          <p:cNvGraphicFramePr/>
          <p:nvPr/>
        </p:nvGraphicFramePr>
        <p:xfrm>
          <a:off x="1035000" y="2011320"/>
          <a:ext cx="49878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011320"/>
                    <a:ext cx="49878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01360" y="22096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85280" y="3844800"/>
            <a:ext cx="8201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TPChart"/>
          <p:cNvGraphicFramePr/>
          <p:nvPr/>
        </p:nvGraphicFramePr>
        <p:xfrm>
          <a:off x="498600" y="1689120"/>
          <a:ext cx="795960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89120"/>
                    <a:ext cx="795960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97160" y="1828440"/>
            <a:ext cx="7137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ana Jones and the Temple of 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Lies Ben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ana Jones and the Last Crus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ders of the Lost 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98240" y="3843360"/>
            <a:ext cx="811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0" name="TPChart"/>
          <p:cNvGraphicFramePr/>
          <p:nvPr/>
        </p:nvGraphicFramePr>
        <p:xfrm>
          <a:off x="812880" y="1841400"/>
          <a:ext cx="695952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841400"/>
                    <a:ext cx="695952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01360" y="1981080"/>
            <a:ext cx="6451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tty Hea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Go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rles Ma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 “the trigger” Van Vran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4760" y="3902040"/>
            <a:ext cx="818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573120" y="2057400"/>
          <a:ext cx="788508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057400"/>
                    <a:ext cx="788508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97160" y="2209680"/>
            <a:ext cx="6527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ty H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Good, the Bad and the U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Fistful of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64760" y="3846240"/>
            <a:ext cx="8069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888840" y="2070000"/>
          <a:ext cx="70358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070000"/>
                    <a:ext cx="70358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77680" y="2133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ton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mes Tay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mes 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44600" y="3867120"/>
            <a:ext cx="81849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944640"/>
            <a:ext cx="79246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Gyparody"/>
              </a:rPr>
              <a:t>Please select a Team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06440" y="2128680"/>
          <a:ext cx="751824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2128680"/>
                    <a:ext cx="751824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11"/>
              </a:spcAft>
              <a:buClr>
                <a:srgbClr val="ffffff"/>
              </a:buClr>
              <a:buFont typeface="Gyparod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yparody"/>
              </a:rPr>
              <a:t>Team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TPChart"/>
          <p:cNvGraphicFramePr/>
          <p:nvPr/>
        </p:nvGraphicFramePr>
        <p:xfrm>
          <a:off x="685800" y="1828800"/>
          <a:ext cx="708660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0866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96800" y="19810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nor Defer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.W.A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85280" y="3300480"/>
            <a:ext cx="8131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famous couple married in 198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TPChart"/>
          <p:cNvGraphicFramePr/>
          <p:nvPr/>
        </p:nvGraphicFramePr>
        <p:xfrm>
          <a:off x="573120" y="1986120"/>
          <a:ext cx="765648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986120"/>
                    <a:ext cx="76564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97160" y="2133360"/>
            <a:ext cx="6527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z Taylor &amp; Richard Bur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ackie Kennedy &amp; Aristotle Onas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rge Bush &amp; Laura Wel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nce Charles &amp; Lady D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66560" y="3854520"/>
            <a:ext cx="814392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TPChart"/>
          <p:cNvGraphicFramePr/>
          <p:nvPr/>
        </p:nvGraphicFramePr>
        <p:xfrm>
          <a:off x="581040" y="1841400"/>
          <a:ext cx="750096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841400"/>
                    <a:ext cx="750096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are the names of the five children from the Partridge Fam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TPChart"/>
          <p:cNvGraphicFramePr/>
          <p:nvPr/>
        </p:nvGraphicFramePr>
        <p:xfrm>
          <a:off x="380880" y="2438280"/>
          <a:ext cx="9409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9409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ith, Laurie, Danny, Chris, Trac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, Tito, Jermaine, Randy, Mar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cia, Jan, Peter, Bobby, G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Boy, Mary Ellen, Jason, Elizabeth, Jim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92120" y="3857400"/>
            <a:ext cx="812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two singers wrote “We are the World – USA for Africa” in 198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TPChart"/>
          <p:cNvGraphicFramePr/>
          <p:nvPr/>
        </p:nvGraphicFramePr>
        <p:xfrm>
          <a:off x="344520" y="2362320"/>
          <a:ext cx="940896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2362320"/>
                    <a:ext cx="94089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 Jackson &amp; Diana 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 ‘Smooth’ Van Vranken &amp; Bill ‘The Voice’ Reitsc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chael Jackson &amp; Lionel Ritch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onel Ritchie &amp; Bruce Springst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3865320"/>
            <a:ext cx="8174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" name="TPChart"/>
          <p:cNvGraphicFramePr/>
          <p:nvPr/>
        </p:nvGraphicFramePr>
        <p:xfrm>
          <a:off x="1219320" y="2400480"/>
          <a:ext cx="640080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00480"/>
                    <a:ext cx="6400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348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921360" y="1736640"/>
            <a:ext cx="1576440" cy="822240"/>
          </a:xfrm>
          <a:custGeom>
            <a:avLst/>
            <a:gdLst>
              <a:gd name="textAreaLeft" fmla="*/ 53280 w 1576440"/>
              <a:gd name="textAreaRight" fmla="*/ 1523160 w 15764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1404" h="21600">
                <a:moveTo>
                  <a:pt x="0" y="0"/>
                </a:moveTo>
                <a:lnTo>
                  <a:pt x="41404" y="0"/>
                </a:lnTo>
                <a:lnTo>
                  <a:pt x="41404" y="21600"/>
                </a:lnTo>
                <a:lnTo>
                  <a:pt x="0" y="21600"/>
                </a:lnTo>
                <a:close/>
              </a:path>
              <a:path fill="lightenLess" w="41404" h="21600">
                <a:moveTo>
                  <a:pt x="0" y="0"/>
                </a:moveTo>
                <a:lnTo>
                  <a:pt x="41404" y="0"/>
                </a:lnTo>
                <a:lnTo>
                  <a:pt x="40004" y="1400"/>
                </a:lnTo>
                <a:lnTo>
                  <a:pt x="1400" y="1400"/>
                </a:lnTo>
                <a:close/>
              </a:path>
              <a:path fill="darken" w="41404" h="21600">
                <a:moveTo>
                  <a:pt x="41404" y="0"/>
                </a:moveTo>
                <a:lnTo>
                  <a:pt x="41404" y="21600"/>
                </a:lnTo>
                <a:lnTo>
                  <a:pt x="40004" y="20200"/>
                </a:lnTo>
                <a:lnTo>
                  <a:pt x="40004" y="1400"/>
                </a:lnTo>
                <a:close/>
              </a:path>
              <a:path fill="darkenLess" w="41404" h="21600">
                <a:moveTo>
                  <a:pt x="41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04" y="20200"/>
                </a:lnTo>
                <a:close/>
              </a:path>
              <a:path fill="lighten" w="41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326200" y="1739880"/>
            <a:ext cx="1535040" cy="822240"/>
          </a:xfrm>
          <a:custGeom>
            <a:avLst/>
            <a:gdLst>
              <a:gd name="textAreaLeft" fmla="*/ 53280 w 1535040"/>
              <a:gd name="textAreaRight" fmla="*/ 1481760 w 15350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0317" h="21600">
                <a:moveTo>
                  <a:pt x="0" y="0"/>
                </a:moveTo>
                <a:lnTo>
                  <a:pt x="40317" y="0"/>
                </a:lnTo>
                <a:lnTo>
                  <a:pt x="40317" y="21600"/>
                </a:lnTo>
                <a:lnTo>
                  <a:pt x="0" y="21600"/>
                </a:lnTo>
                <a:close/>
              </a:path>
              <a:path fill="lightenLess" w="40317" h="21600">
                <a:moveTo>
                  <a:pt x="0" y="0"/>
                </a:moveTo>
                <a:lnTo>
                  <a:pt x="40317" y="0"/>
                </a:lnTo>
                <a:lnTo>
                  <a:pt x="38917" y="1400"/>
                </a:lnTo>
                <a:lnTo>
                  <a:pt x="1400" y="1400"/>
                </a:lnTo>
                <a:close/>
              </a:path>
              <a:path fill="darken" w="40317" h="21600">
                <a:moveTo>
                  <a:pt x="40317" y="0"/>
                </a:moveTo>
                <a:lnTo>
                  <a:pt x="40317" y="21600"/>
                </a:lnTo>
                <a:lnTo>
                  <a:pt x="38917" y="20200"/>
                </a:lnTo>
                <a:lnTo>
                  <a:pt x="38917" y="1400"/>
                </a:lnTo>
                <a:close/>
              </a:path>
              <a:path fill="darkenLess" w="40317" h="21600">
                <a:moveTo>
                  <a:pt x="40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7" y="20200"/>
                </a:lnTo>
                <a:close/>
              </a:path>
              <a:path fill="lighten" w="40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675240" y="1728720"/>
            <a:ext cx="1535040" cy="822240"/>
          </a:xfrm>
          <a:custGeom>
            <a:avLst/>
            <a:gdLst>
              <a:gd name="textAreaLeft" fmla="*/ 53280 w 1535040"/>
              <a:gd name="textAreaRight" fmla="*/ 1481760 w 1535040"/>
              <a:gd name="textAreaTop" fmla="*/ 53280 h 822240"/>
              <a:gd name="textAreaBottom" fmla="*/ 768960 h 822240"/>
            </a:gdLst>
            <a:ahLst/>
            <a:rect l="textAreaLeft" t="textAreaTop" r="textAreaRight" b="textAreaBottom"/>
            <a:pathLst>
              <a:path w="40317" h="21600">
                <a:moveTo>
                  <a:pt x="0" y="0"/>
                </a:moveTo>
                <a:lnTo>
                  <a:pt x="40317" y="0"/>
                </a:lnTo>
                <a:lnTo>
                  <a:pt x="40317" y="21600"/>
                </a:lnTo>
                <a:lnTo>
                  <a:pt x="0" y="21600"/>
                </a:lnTo>
                <a:close/>
              </a:path>
              <a:path fill="lightenLess" w="40317" h="21600">
                <a:moveTo>
                  <a:pt x="0" y="0"/>
                </a:moveTo>
                <a:lnTo>
                  <a:pt x="40317" y="0"/>
                </a:lnTo>
                <a:lnTo>
                  <a:pt x="38917" y="1400"/>
                </a:lnTo>
                <a:lnTo>
                  <a:pt x="1400" y="1400"/>
                </a:lnTo>
                <a:close/>
              </a:path>
              <a:path fill="darken" w="40317" h="21600">
                <a:moveTo>
                  <a:pt x="40317" y="0"/>
                </a:moveTo>
                <a:lnTo>
                  <a:pt x="40317" y="21600"/>
                </a:lnTo>
                <a:lnTo>
                  <a:pt x="38917" y="20200"/>
                </a:lnTo>
                <a:lnTo>
                  <a:pt x="38917" y="1400"/>
                </a:lnTo>
                <a:close/>
              </a:path>
              <a:path fill="darkenLess" w="40317" h="21600">
                <a:moveTo>
                  <a:pt x="40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17" y="20200"/>
                </a:lnTo>
                <a:close/>
              </a:path>
              <a:path fill="lighten" w="40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47760" y="1731960"/>
            <a:ext cx="1441440" cy="836640"/>
          </a:xfrm>
          <a:custGeom>
            <a:avLst/>
            <a:gdLst>
              <a:gd name="textAreaLeft" fmla="*/ 54000 w 1441440"/>
              <a:gd name="textAreaRight" fmla="*/ 1387440 w 14414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7208" h="21600">
                <a:moveTo>
                  <a:pt x="0" y="0"/>
                </a:moveTo>
                <a:lnTo>
                  <a:pt x="37208" y="0"/>
                </a:lnTo>
                <a:lnTo>
                  <a:pt x="37208" y="21600"/>
                </a:lnTo>
                <a:lnTo>
                  <a:pt x="0" y="21600"/>
                </a:lnTo>
                <a:close/>
              </a:path>
              <a:path fill="lightenLess" w="37208" h="21600">
                <a:moveTo>
                  <a:pt x="0" y="0"/>
                </a:moveTo>
                <a:lnTo>
                  <a:pt x="37208" y="0"/>
                </a:lnTo>
                <a:lnTo>
                  <a:pt x="35808" y="1400"/>
                </a:lnTo>
                <a:lnTo>
                  <a:pt x="1400" y="1400"/>
                </a:lnTo>
                <a:close/>
              </a:path>
              <a:path fill="darken" w="37208" h="21600">
                <a:moveTo>
                  <a:pt x="37208" y="0"/>
                </a:moveTo>
                <a:lnTo>
                  <a:pt x="37208" y="21600"/>
                </a:lnTo>
                <a:lnTo>
                  <a:pt x="35808" y="20200"/>
                </a:lnTo>
                <a:lnTo>
                  <a:pt x="35808" y="1400"/>
                </a:lnTo>
                <a:close/>
              </a:path>
              <a:path fill="darkenLess" w="37208" h="21600">
                <a:moveTo>
                  <a:pt x="37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08" y="20200"/>
                </a:lnTo>
                <a:close/>
              </a:path>
              <a:path fill="lighten" w="37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49440" y="1708200"/>
            <a:ext cx="1414440" cy="836640"/>
          </a:xfrm>
          <a:custGeom>
            <a:avLst/>
            <a:gdLst>
              <a:gd name="textAreaLeft" fmla="*/ 54000 w 1414440"/>
              <a:gd name="textAreaRight" fmla="*/ 1360440 w 14144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6511" h="21600">
                <a:moveTo>
                  <a:pt x="0" y="0"/>
                </a:moveTo>
                <a:lnTo>
                  <a:pt x="36511" y="0"/>
                </a:lnTo>
                <a:lnTo>
                  <a:pt x="36511" y="21600"/>
                </a:lnTo>
                <a:lnTo>
                  <a:pt x="0" y="21600"/>
                </a:lnTo>
                <a:close/>
              </a:path>
              <a:path fill="lightenLess" w="36511" h="21600">
                <a:moveTo>
                  <a:pt x="0" y="0"/>
                </a:moveTo>
                <a:lnTo>
                  <a:pt x="36511" y="0"/>
                </a:lnTo>
                <a:lnTo>
                  <a:pt x="35111" y="1400"/>
                </a:lnTo>
                <a:lnTo>
                  <a:pt x="1400" y="1400"/>
                </a:lnTo>
                <a:close/>
              </a:path>
              <a:path fill="darken" w="36511" h="21600">
                <a:moveTo>
                  <a:pt x="36511" y="0"/>
                </a:moveTo>
                <a:lnTo>
                  <a:pt x="36511" y="21600"/>
                </a:lnTo>
                <a:lnTo>
                  <a:pt x="35111" y="20200"/>
                </a:lnTo>
                <a:lnTo>
                  <a:pt x="35111" y="1400"/>
                </a:lnTo>
                <a:close/>
              </a:path>
              <a:path fill="darkenLess" w="36511" h="21600">
                <a:moveTo>
                  <a:pt x="3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1" y="20200"/>
                </a:lnTo>
                <a:close/>
              </a:path>
              <a:path fill="lighten" w="3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641520" y="2622600"/>
            <a:ext cx="7873920" cy="3483000"/>
            <a:chOff x="641520" y="2622600"/>
            <a:chExt cx="7873920" cy="3483000"/>
          </a:xfrm>
        </p:grpSpPr>
        <p:sp>
          <p:nvSpPr>
            <p:cNvPr id="62" name="AutoShape 8"/>
            <p:cNvSpPr/>
            <p:nvPr/>
          </p:nvSpPr>
          <p:spPr>
            <a:xfrm>
              <a:off x="641520" y="2633760"/>
              <a:ext cx="1425240" cy="617400"/>
            </a:xfrm>
            <a:custGeom>
              <a:avLst/>
              <a:gdLst>
                <a:gd name="textAreaLeft" fmla="*/ 39960 w 1425240"/>
                <a:gd name="textAreaRight" fmla="*/ 1385280 w 14252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46" h="21600">
                  <a:moveTo>
                    <a:pt x="0" y="0"/>
                  </a:moveTo>
                  <a:lnTo>
                    <a:pt x="49846" y="0"/>
                  </a:lnTo>
                  <a:lnTo>
                    <a:pt x="49846" y="21600"/>
                  </a:lnTo>
                  <a:lnTo>
                    <a:pt x="0" y="21600"/>
                  </a:lnTo>
                  <a:close/>
                </a:path>
                <a:path fill="lightenLess" w="49846" h="21600">
                  <a:moveTo>
                    <a:pt x="0" y="0"/>
                  </a:moveTo>
                  <a:lnTo>
                    <a:pt x="49846" y="0"/>
                  </a:lnTo>
                  <a:lnTo>
                    <a:pt x="48446" y="1400"/>
                  </a:lnTo>
                  <a:lnTo>
                    <a:pt x="1400" y="1400"/>
                  </a:lnTo>
                  <a:close/>
                </a:path>
                <a:path fill="darken" w="49846" h="21600">
                  <a:moveTo>
                    <a:pt x="49846" y="0"/>
                  </a:moveTo>
                  <a:lnTo>
                    <a:pt x="49846" y="21600"/>
                  </a:lnTo>
                  <a:lnTo>
                    <a:pt x="48446" y="20200"/>
                  </a:lnTo>
                  <a:lnTo>
                    <a:pt x="48446" y="1400"/>
                  </a:lnTo>
                  <a:close/>
                </a:path>
                <a:path fill="darkenLess" w="49846" h="21600">
                  <a:moveTo>
                    <a:pt x="4984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46" y="20200"/>
                  </a:lnTo>
                  <a:close/>
                </a:path>
                <a:path fill="lighten" w="4984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2158920" y="263520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4" name="AutoShape 10"/>
            <p:cNvSpPr/>
            <p:nvPr/>
          </p:nvSpPr>
          <p:spPr>
            <a:xfrm>
              <a:off x="3673440" y="263520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5" name="AutoShape 11"/>
            <p:cNvSpPr/>
            <p:nvPr/>
          </p:nvSpPr>
          <p:spPr>
            <a:xfrm>
              <a:off x="5324400" y="262260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6907320" y="263700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644400" y="33433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8" name="AutoShape 14"/>
            <p:cNvSpPr/>
            <p:nvPr/>
          </p:nvSpPr>
          <p:spPr>
            <a:xfrm>
              <a:off x="2157480" y="33577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69" name="AutoShape 15"/>
            <p:cNvSpPr/>
            <p:nvPr/>
          </p:nvSpPr>
          <p:spPr>
            <a:xfrm>
              <a:off x="642960" y="406872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0" name="AutoShape 16"/>
            <p:cNvSpPr/>
            <p:nvPr/>
          </p:nvSpPr>
          <p:spPr>
            <a:xfrm>
              <a:off x="642960" y="479268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1" name="AutoShape 17"/>
            <p:cNvSpPr/>
            <p:nvPr/>
          </p:nvSpPr>
          <p:spPr>
            <a:xfrm>
              <a:off x="642960" y="548784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>
              <a:off x="2146320" y="4056120"/>
              <a:ext cx="1425600" cy="61740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49859" h="21600">
                  <a:moveTo>
                    <a:pt x="0" y="0"/>
                  </a:moveTo>
                  <a:lnTo>
                    <a:pt x="49859" y="0"/>
                  </a:lnTo>
                  <a:lnTo>
                    <a:pt x="49859" y="21600"/>
                  </a:lnTo>
                  <a:lnTo>
                    <a:pt x="0" y="21600"/>
                  </a:lnTo>
                  <a:close/>
                </a:path>
                <a:path fill="lightenLess" w="49859" h="21600">
                  <a:moveTo>
                    <a:pt x="0" y="0"/>
                  </a:moveTo>
                  <a:lnTo>
                    <a:pt x="49859" y="0"/>
                  </a:lnTo>
                  <a:lnTo>
                    <a:pt x="48459" y="1400"/>
                  </a:lnTo>
                  <a:lnTo>
                    <a:pt x="1400" y="1400"/>
                  </a:lnTo>
                  <a:close/>
                </a:path>
                <a:path fill="darken" w="49859" h="21600">
                  <a:moveTo>
                    <a:pt x="49859" y="0"/>
                  </a:moveTo>
                  <a:lnTo>
                    <a:pt x="49859" y="21600"/>
                  </a:lnTo>
                  <a:lnTo>
                    <a:pt x="48459" y="20200"/>
                  </a:lnTo>
                  <a:lnTo>
                    <a:pt x="48459" y="1400"/>
                  </a:lnTo>
                  <a:close/>
                </a:path>
                <a:path fill="darkenLess" w="49859" h="21600">
                  <a:moveTo>
                    <a:pt x="498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59" y="20200"/>
                  </a:lnTo>
                  <a:close/>
                </a:path>
                <a:path fill="lighten" w="498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3" name="AutoShape 19"/>
            <p:cNvSpPr/>
            <p:nvPr/>
          </p:nvSpPr>
          <p:spPr>
            <a:xfrm>
              <a:off x="2144880" y="4751280"/>
              <a:ext cx="1425240" cy="617760"/>
            </a:xfrm>
            <a:custGeom>
              <a:avLst/>
              <a:gdLst>
                <a:gd name="textAreaLeft" fmla="*/ 39960 w 1425240"/>
                <a:gd name="textAreaRight" fmla="*/ 1385280 w 14252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17" h="21600">
                  <a:moveTo>
                    <a:pt x="0" y="0"/>
                  </a:moveTo>
                  <a:lnTo>
                    <a:pt x="49817" y="0"/>
                  </a:lnTo>
                  <a:lnTo>
                    <a:pt x="49817" y="21600"/>
                  </a:lnTo>
                  <a:lnTo>
                    <a:pt x="0" y="21600"/>
                  </a:lnTo>
                  <a:close/>
                </a:path>
                <a:path fill="lightenLess" w="49817" h="21600">
                  <a:moveTo>
                    <a:pt x="0" y="0"/>
                  </a:moveTo>
                  <a:lnTo>
                    <a:pt x="49817" y="0"/>
                  </a:lnTo>
                  <a:lnTo>
                    <a:pt x="48417" y="1400"/>
                  </a:lnTo>
                  <a:lnTo>
                    <a:pt x="1400" y="1400"/>
                  </a:lnTo>
                  <a:close/>
                </a:path>
                <a:path fill="darken" w="49817" h="21600">
                  <a:moveTo>
                    <a:pt x="49817" y="0"/>
                  </a:moveTo>
                  <a:lnTo>
                    <a:pt x="49817" y="21600"/>
                  </a:lnTo>
                  <a:lnTo>
                    <a:pt x="48417" y="20200"/>
                  </a:lnTo>
                  <a:lnTo>
                    <a:pt x="48417" y="1400"/>
                  </a:lnTo>
                  <a:close/>
                </a:path>
                <a:path fill="darkenLess" w="49817" h="21600">
                  <a:moveTo>
                    <a:pt x="49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17" y="20200"/>
                  </a:lnTo>
                  <a:close/>
                </a:path>
                <a:path fill="lighten" w="49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4" name="AutoShape 20"/>
            <p:cNvSpPr/>
            <p:nvPr/>
          </p:nvSpPr>
          <p:spPr>
            <a:xfrm>
              <a:off x="2157480" y="5460840"/>
              <a:ext cx="1425600" cy="617760"/>
            </a:xfrm>
            <a:custGeom>
              <a:avLst/>
              <a:gdLst>
                <a:gd name="textAreaLeft" fmla="*/ 39960 w 1425600"/>
                <a:gd name="textAreaRight" fmla="*/ 1385640 w 14256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49830" h="21600">
                  <a:moveTo>
                    <a:pt x="0" y="0"/>
                  </a:moveTo>
                  <a:lnTo>
                    <a:pt x="49830" y="0"/>
                  </a:lnTo>
                  <a:lnTo>
                    <a:pt x="49830" y="21600"/>
                  </a:lnTo>
                  <a:lnTo>
                    <a:pt x="0" y="21600"/>
                  </a:lnTo>
                  <a:close/>
                </a:path>
                <a:path fill="lightenLess" w="49830" h="21600">
                  <a:moveTo>
                    <a:pt x="0" y="0"/>
                  </a:moveTo>
                  <a:lnTo>
                    <a:pt x="49830" y="0"/>
                  </a:lnTo>
                  <a:lnTo>
                    <a:pt x="48430" y="1400"/>
                  </a:lnTo>
                  <a:lnTo>
                    <a:pt x="1400" y="1400"/>
                  </a:lnTo>
                  <a:close/>
                </a:path>
                <a:path fill="darken" w="49830" h="21600">
                  <a:moveTo>
                    <a:pt x="49830" y="0"/>
                  </a:moveTo>
                  <a:lnTo>
                    <a:pt x="49830" y="21600"/>
                  </a:lnTo>
                  <a:lnTo>
                    <a:pt x="48430" y="20200"/>
                  </a:lnTo>
                  <a:lnTo>
                    <a:pt x="48430" y="1400"/>
                  </a:lnTo>
                  <a:close/>
                </a:path>
                <a:path fill="darkenLess" w="49830" h="21600">
                  <a:moveTo>
                    <a:pt x="4983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8430" y="20200"/>
                  </a:lnTo>
                  <a:close/>
                </a:path>
                <a:path fill="lighten" w="4983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5" name="AutoShape 21"/>
            <p:cNvSpPr/>
            <p:nvPr/>
          </p:nvSpPr>
          <p:spPr>
            <a:xfrm>
              <a:off x="3683160" y="3357720"/>
              <a:ext cx="1549080" cy="617400"/>
            </a:xfrm>
            <a:custGeom>
              <a:avLst/>
              <a:gdLst>
                <a:gd name="textAreaLeft" fmla="*/ 39960 w 1549080"/>
                <a:gd name="textAreaRight" fmla="*/ 1509120 w 154908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4176" h="21600">
                  <a:moveTo>
                    <a:pt x="0" y="0"/>
                  </a:moveTo>
                  <a:lnTo>
                    <a:pt x="54176" y="0"/>
                  </a:lnTo>
                  <a:lnTo>
                    <a:pt x="54176" y="21600"/>
                  </a:lnTo>
                  <a:lnTo>
                    <a:pt x="0" y="21600"/>
                  </a:lnTo>
                  <a:close/>
                </a:path>
                <a:path fill="lightenLess" w="54176" h="21600">
                  <a:moveTo>
                    <a:pt x="0" y="0"/>
                  </a:moveTo>
                  <a:lnTo>
                    <a:pt x="54176" y="0"/>
                  </a:lnTo>
                  <a:lnTo>
                    <a:pt x="52776" y="1400"/>
                  </a:lnTo>
                  <a:lnTo>
                    <a:pt x="1400" y="1400"/>
                  </a:lnTo>
                  <a:close/>
                </a:path>
                <a:path fill="darken" w="54176" h="21600">
                  <a:moveTo>
                    <a:pt x="54176" y="0"/>
                  </a:moveTo>
                  <a:lnTo>
                    <a:pt x="54176" y="21600"/>
                  </a:lnTo>
                  <a:lnTo>
                    <a:pt x="52776" y="20200"/>
                  </a:lnTo>
                  <a:lnTo>
                    <a:pt x="52776" y="1400"/>
                  </a:lnTo>
                  <a:close/>
                </a:path>
                <a:path fill="darkenLess" w="54176" h="21600">
                  <a:moveTo>
                    <a:pt x="5417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76" y="20200"/>
                  </a:lnTo>
                  <a:close/>
                </a:path>
                <a:path fill="lighten" w="5417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>
              <a:off x="3678120" y="405756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7" name="AutoShape 23"/>
            <p:cNvSpPr/>
            <p:nvPr/>
          </p:nvSpPr>
          <p:spPr>
            <a:xfrm>
              <a:off x="3693960" y="4778280"/>
              <a:ext cx="1549440" cy="61776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4157" h="21600">
                  <a:moveTo>
                    <a:pt x="0" y="0"/>
                  </a:moveTo>
                  <a:lnTo>
                    <a:pt x="54157" y="0"/>
                  </a:lnTo>
                  <a:lnTo>
                    <a:pt x="54157" y="21600"/>
                  </a:lnTo>
                  <a:lnTo>
                    <a:pt x="0" y="21600"/>
                  </a:lnTo>
                  <a:close/>
                </a:path>
                <a:path fill="lightenLess" w="54157" h="21600">
                  <a:moveTo>
                    <a:pt x="0" y="0"/>
                  </a:moveTo>
                  <a:lnTo>
                    <a:pt x="54157" y="0"/>
                  </a:lnTo>
                  <a:lnTo>
                    <a:pt x="52757" y="1400"/>
                  </a:lnTo>
                  <a:lnTo>
                    <a:pt x="1400" y="1400"/>
                  </a:lnTo>
                  <a:close/>
                </a:path>
                <a:path fill="darken" w="54157" h="21600">
                  <a:moveTo>
                    <a:pt x="54157" y="0"/>
                  </a:moveTo>
                  <a:lnTo>
                    <a:pt x="54157" y="21600"/>
                  </a:lnTo>
                  <a:lnTo>
                    <a:pt x="52757" y="20200"/>
                  </a:lnTo>
                  <a:lnTo>
                    <a:pt x="52757" y="1400"/>
                  </a:lnTo>
                  <a:close/>
                </a:path>
                <a:path fill="darkenLess" w="54157" h="21600">
                  <a:moveTo>
                    <a:pt x="541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57" y="20200"/>
                  </a:lnTo>
                  <a:close/>
                </a:path>
                <a:path fill="lighten" w="541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3695760" y="5478480"/>
              <a:ext cx="1549440" cy="617400"/>
            </a:xfrm>
            <a:custGeom>
              <a:avLst/>
              <a:gdLst>
                <a:gd name="textAreaLeft" fmla="*/ 39960 w 1549440"/>
                <a:gd name="textAreaRight" fmla="*/ 1509480 w 1549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4189" h="21600">
                  <a:moveTo>
                    <a:pt x="0" y="0"/>
                  </a:moveTo>
                  <a:lnTo>
                    <a:pt x="54189" y="0"/>
                  </a:lnTo>
                  <a:lnTo>
                    <a:pt x="54189" y="21600"/>
                  </a:lnTo>
                  <a:lnTo>
                    <a:pt x="0" y="21600"/>
                  </a:lnTo>
                  <a:close/>
                </a:path>
                <a:path fill="lightenLess" w="54189" h="21600">
                  <a:moveTo>
                    <a:pt x="0" y="0"/>
                  </a:moveTo>
                  <a:lnTo>
                    <a:pt x="54189" y="0"/>
                  </a:lnTo>
                  <a:lnTo>
                    <a:pt x="52789" y="1400"/>
                  </a:lnTo>
                  <a:lnTo>
                    <a:pt x="1400" y="1400"/>
                  </a:lnTo>
                  <a:close/>
                </a:path>
                <a:path fill="darken" w="54189" h="21600">
                  <a:moveTo>
                    <a:pt x="54189" y="0"/>
                  </a:moveTo>
                  <a:lnTo>
                    <a:pt x="54189" y="21600"/>
                  </a:lnTo>
                  <a:lnTo>
                    <a:pt x="52789" y="20200"/>
                  </a:lnTo>
                  <a:lnTo>
                    <a:pt x="52789" y="1400"/>
                  </a:lnTo>
                  <a:close/>
                </a:path>
                <a:path fill="darkenLess" w="54189" h="21600">
                  <a:moveTo>
                    <a:pt x="541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789" y="20200"/>
                  </a:lnTo>
                  <a:close/>
                </a:path>
                <a:path fill="lighten" w="541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79" name="AutoShape 25"/>
            <p:cNvSpPr/>
            <p:nvPr/>
          </p:nvSpPr>
          <p:spPr>
            <a:xfrm>
              <a:off x="5327640" y="336240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0" name="AutoShape 26"/>
            <p:cNvSpPr/>
            <p:nvPr/>
          </p:nvSpPr>
          <p:spPr>
            <a:xfrm>
              <a:off x="5313240" y="404496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316480" y="4782960"/>
              <a:ext cx="1521000" cy="61776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760"/>
                <a:gd name="textAreaBottom" fmla="*/ 577800 h 617760"/>
              </a:gdLst>
              <a:ahLst/>
              <a:rect l="textAreaLeft" t="textAreaTop" r="textAreaRight" b="textAreaBottom"/>
              <a:pathLst>
                <a:path w="53163" h="21600">
                  <a:moveTo>
                    <a:pt x="0" y="0"/>
                  </a:moveTo>
                  <a:lnTo>
                    <a:pt x="53163" y="0"/>
                  </a:lnTo>
                  <a:lnTo>
                    <a:pt x="53163" y="21600"/>
                  </a:lnTo>
                  <a:lnTo>
                    <a:pt x="0" y="21600"/>
                  </a:lnTo>
                  <a:close/>
                </a:path>
                <a:path fill="lightenLess" w="53163" h="21600">
                  <a:moveTo>
                    <a:pt x="0" y="0"/>
                  </a:moveTo>
                  <a:lnTo>
                    <a:pt x="53163" y="0"/>
                  </a:lnTo>
                  <a:lnTo>
                    <a:pt x="51763" y="1400"/>
                  </a:lnTo>
                  <a:lnTo>
                    <a:pt x="1400" y="1400"/>
                  </a:lnTo>
                  <a:close/>
                </a:path>
                <a:path fill="darken" w="53163" h="21600">
                  <a:moveTo>
                    <a:pt x="53163" y="0"/>
                  </a:moveTo>
                  <a:lnTo>
                    <a:pt x="53163" y="21600"/>
                  </a:lnTo>
                  <a:lnTo>
                    <a:pt x="51763" y="20200"/>
                  </a:lnTo>
                  <a:lnTo>
                    <a:pt x="51763" y="1400"/>
                  </a:lnTo>
                  <a:close/>
                </a:path>
                <a:path fill="darkenLess" w="53163" h="21600">
                  <a:moveTo>
                    <a:pt x="5316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63" y="20200"/>
                  </a:lnTo>
                  <a:close/>
                </a:path>
                <a:path fill="lighten" w="5316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2" name="AutoShape 28"/>
            <p:cNvSpPr/>
            <p:nvPr/>
          </p:nvSpPr>
          <p:spPr>
            <a:xfrm>
              <a:off x="5329080" y="5465880"/>
              <a:ext cx="1521000" cy="617400"/>
            </a:xfrm>
            <a:custGeom>
              <a:avLst/>
              <a:gdLst>
                <a:gd name="textAreaLeft" fmla="*/ 39960 w 1521000"/>
                <a:gd name="textAreaRight" fmla="*/ 1481040 w 152100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3194" h="21600">
                  <a:moveTo>
                    <a:pt x="0" y="0"/>
                  </a:moveTo>
                  <a:lnTo>
                    <a:pt x="53194" y="0"/>
                  </a:lnTo>
                  <a:lnTo>
                    <a:pt x="53194" y="21600"/>
                  </a:lnTo>
                  <a:lnTo>
                    <a:pt x="0" y="21600"/>
                  </a:lnTo>
                  <a:close/>
                </a:path>
                <a:path fill="lightenLess" w="53194" h="21600">
                  <a:moveTo>
                    <a:pt x="0" y="0"/>
                  </a:moveTo>
                  <a:lnTo>
                    <a:pt x="53194" y="0"/>
                  </a:lnTo>
                  <a:lnTo>
                    <a:pt x="51794" y="1400"/>
                  </a:lnTo>
                  <a:lnTo>
                    <a:pt x="1400" y="1400"/>
                  </a:lnTo>
                  <a:close/>
                </a:path>
                <a:path fill="darken" w="53194" h="21600">
                  <a:moveTo>
                    <a:pt x="53194" y="0"/>
                  </a:moveTo>
                  <a:lnTo>
                    <a:pt x="53194" y="21600"/>
                  </a:lnTo>
                  <a:lnTo>
                    <a:pt x="51794" y="20200"/>
                  </a:lnTo>
                  <a:lnTo>
                    <a:pt x="51794" y="1400"/>
                  </a:lnTo>
                  <a:close/>
                </a:path>
                <a:path fill="darkenLess" w="53194" h="21600">
                  <a:moveTo>
                    <a:pt x="531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1794" y="20200"/>
                  </a:lnTo>
                  <a:close/>
                </a:path>
                <a:path fill="lighten" w="531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3" name="AutoShape 29"/>
            <p:cNvSpPr/>
            <p:nvPr/>
          </p:nvSpPr>
          <p:spPr>
            <a:xfrm>
              <a:off x="6910560" y="4071960"/>
              <a:ext cx="1576080" cy="617400"/>
            </a:xfrm>
            <a:custGeom>
              <a:avLst/>
              <a:gdLst>
                <a:gd name="textAreaLeft" fmla="*/ 39960 w 1576080"/>
                <a:gd name="textAreaRight" fmla="*/ 1536120 w 157608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20" h="21600">
                  <a:moveTo>
                    <a:pt x="0" y="0"/>
                  </a:moveTo>
                  <a:lnTo>
                    <a:pt x="55120" y="0"/>
                  </a:lnTo>
                  <a:lnTo>
                    <a:pt x="55120" y="21600"/>
                  </a:lnTo>
                  <a:lnTo>
                    <a:pt x="0" y="21600"/>
                  </a:lnTo>
                  <a:close/>
                </a:path>
                <a:path fill="lightenLess" w="55120" h="21600">
                  <a:moveTo>
                    <a:pt x="0" y="0"/>
                  </a:moveTo>
                  <a:lnTo>
                    <a:pt x="55120" y="0"/>
                  </a:lnTo>
                  <a:lnTo>
                    <a:pt x="53720" y="1400"/>
                  </a:lnTo>
                  <a:lnTo>
                    <a:pt x="1400" y="1400"/>
                  </a:lnTo>
                  <a:close/>
                </a:path>
                <a:path fill="darken" w="55120" h="21600">
                  <a:moveTo>
                    <a:pt x="55120" y="0"/>
                  </a:moveTo>
                  <a:lnTo>
                    <a:pt x="55120" y="21600"/>
                  </a:lnTo>
                  <a:lnTo>
                    <a:pt x="53720" y="20200"/>
                  </a:lnTo>
                  <a:lnTo>
                    <a:pt x="53720" y="1400"/>
                  </a:lnTo>
                  <a:close/>
                </a:path>
                <a:path fill="darkenLess" w="55120" h="21600">
                  <a:moveTo>
                    <a:pt x="551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20" y="20200"/>
                  </a:lnTo>
                  <a:close/>
                </a:path>
                <a:path fill="lighten" w="551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4" name="AutoShape 30"/>
            <p:cNvSpPr/>
            <p:nvPr/>
          </p:nvSpPr>
          <p:spPr>
            <a:xfrm>
              <a:off x="6939000" y="334332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>
              <a:off x="6923160" y="474192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  <p:sp>
          <p:nvSpPr>
            <p:cNvPr id="86" name="AutoShape 32"/>
            <p:cNvSpPr/>
            <p:nvPr/>
          </p:nvSpPr>
          <p:spPr>
            <a:xfrm>
              <a:off x="6923160" y="5478480"/>
              <a:ext cx="1576440" cy="617400"/>
            </a:xfrm>
            <a:custGeom>
              <a:avLst/>
              <a:gdLst>
                <a:gd name="textAreaLeft" fmla="*/ 39960 w 1576440"/>
                <a:gd name="textAreaRight" fmla="*/ 1536480 w 1576440"/>
                <a:gd name="textAreaTop" fmla="*/ 39960 h 617400"/>
                <a:gd name="textAreaBottom" fmla="*/ 577440 h 617400"/>
              </a:gdLst>
              <a:ahLst/>
              <a:rect l="textAreaLeft" t="textAreaTop" r="textAreaRight" b="textAreaBottom"/>
              <a:pathLst>
                <a:path w="55133" h="21600">
                  <a:moveTo>
                    <a:pt x="0" y="0"/>
                  </a:moveTo>
                  <a:lnTo>
                    <a:pt x="55133" y="0"/>
                  </a:lnTo>
                  <a:lnTo>
                    <a:pt x="55133" y="21600"/>
                  </a:lnTo>
                  <a:lnTo>
                    <a:pt x="0" y="21600"/>
                  </a:lnTo>
                  <a:close/>
                </a:path>
                <a:path fill="lightenLess" w="55133" h="21600">
                  <a:moveTo>
                    <a:pt x="0" y="0"/>
                  </a:moveTo>
                  <a:lnTo>
                    <a:pt x="55133" y="0"/>
                  </a:lnTo>
                  <a:lnTo>
                    <a:pt x="53733" y="1400"/>
                  </a:lnTo>
                  <a:lnTo>
                    <a:pt x="1400" y="1400"/>
                  </a:lnTo>
                  <a:close/>
                </a:path>
                <a:path fill="darken" w="55133" h="21600">
                  <a:moveTo>
                    <a:pt x="55133" y="0"/>
                  </a:moveTo>
                  <a:lnTo>
                    <a:pt x="55133" y="21600"/>
                  </a:lnTo>
                  <a:lnTo>
                    <a:pt x="53733" y="20200"/>
                  </a:lnTo>
                  <a:lnTo>
                    <a:pt x="53733" y="1400"/>
                  </a:lnTo>
                  <a:close/>
                </a:path>
                <a:path fill="darkenLess" w="55133" h="21600">
                  <a:moveTo>
                    <a:pt x="5513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3733" y="20200"/>
                  </a:lnTo>
                  <a:close/>
                </a:path>
                <a:path fill="lighten" w="5513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</p:grpSp>
      <p:sp>
        <p:nvSpPr>
          <p:cNvPr id="87" name="Oval 33"/>
          <p:cNvSpPr/>
          <p:nvPr/>
        </p:nvSpPr>
        <p:spPr>
          <a:xfrm>
            <a:off x="7381800" y="6207120"/>
            <a:ext cx="1762200" cy="6224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35"/>
          <p:cNvGrpSpPr/>
          <p:nvPr/>
        </p:nvGrpSpPr>
        <p:grpSpPr>
          <a:xfrm>
            <a:off x="600120" y="1674720"/>
            <a:ext cx="7942320" cy="4479840"/>
            <a:chOff x="600120" y="1674720"/>
            <a:chExt cx="7942320" cy="4479840"/>
          </a:xfrm>
        </p:grpSpPr>
        <p:grpSp>
          <p:nvGrpSpPr>
            <p:cNvPr id="90" name="Group 36"/>
            <p:cNvGrpSpPr/>
            <p:nvPr/>
          </p:nvGrpSpPr>
          <p:grpSpPr>
            <a:xfrm>
              <a:off x="604440" y="1678680"/>
              <a:ext cx="7933320" cy="4471560"/>
              <a:chOff x="604440" y="1678680"/>
              <a:chExt cx="7933320" cy="4471560"/>
            </a:xfrm>
          </p:grpSpPr>
          <p:grpSp>
            <p:nvGrpSpPr>
              <p:cNvPr id="91" name="Group 37"/>
              <p:cNvGrpSpPr/>
              <p:nvPr/>
            </p:nvGrpSpPr>
            <p:grpSpPr>
              <a:xfrm>
                <a:off x="604440" y="1678680"/>
                <a:ext cx="1497240" cy="912960"/>
                <a:chOff x="604440" y="1678680"/>
                <a:chExt cx="1497240" cy="912960"/>
              </a:xfrm>
            </p:grpSpPr>
            <p:sp>
              <p:nvSpPr>
                <p:cNvPr id="92" name="Rectangle 38"/>
                <p:cNvSpPr/>
                <p:nvPr/>
              </p:nvSpPr>
              <p:spPr>
                <a:xfrm>
                  <a:off x="613080" y="1686600"/>
                  <a:ext cx="147960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SCIENCE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3" name="Rectangle 39"/>
                <p:cNvSpPr/>
                <p:nvPr/>
              </p:nvSpPr>
              <p:spPr>
                <a:xfrm>
                  <a:off x="604440" y="1678680"/>
                  <a:ext cx="149724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94" name="Group 40"/>
              <p:cNvGrpSpPr/>
              <p:nvPr/>
            </p:nvGrpSpPr>
            <p:grpSpPr>
              <a:xfrm>
                <a:off x="2101680" y="1678680"/>
                <a:ext cx="1533960" cy="912960"/>
                <a:chOff x="2101680" y="1678680"/>
                <a:chExt cx="1533960" cy="912960"/>
              </a:xfrm>
            </p:grpSpPr>
            <p:sp>
              <p:nvSpPr>
                <p:cNvPr id="95" name="Rectangle 41"/>
                <p:cNvSpPr/>
                <p:nvPr/>
              </p:nvSpPr>
              <p:spPr>
                <a:xfrm>
                  <a:off x="2110320" y="1686600"/>
                  <a:ext cx="151632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MOVI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6" name="Rectangle 42"/>
                <p:cNvSpPr/>
                <p:nvPr/>
              </p:nvSpPr>
              <p:spPr>
                <a:xfrm>
                  <a:off x="2101680" y="1678680"/>
                  <a:ext cx="153396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97" name="Group 43"/>
              <p:cNvGrpSpPr/>
              <p:nvPr/>
            </p:nvGrpSpPr>
            <p:grpSpPr>
              <a:xfrm>
                <a:off x="3636000" y="1678680"/>
                <a:ext cx="1642680" cy="912960"/>
                <a:chOff x="3636000" y="1678680"/>
                <a:chExt cx="1642680" cy="912960"/>
              </a:xfrm>
            </p:grpSpPr>
            <p:sp>
              <p:nvSpPr>
                <p:cNvPr id="98" name="Rectangle 44"/>
                <p:cNvSpPr/>
                <p:nvPr/>
              </p:nvSpPr>
              <p:spPr>
                <a:xfrm>
                  <a:off x="3644640" y="1686600"/>
                  <a:ext cx="162468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MUSIC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99" name="Rectangle 45"/>
                <p:cNvSpPr/>
                <p:nvPr/>
              </p:nvSpPr>
              <p:spPr>
                <a:xfrm>
                  <a:off x="3636000" y="1678680"/>
                  <a:ext cx="164268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0" name="Group 46"/>
              <p:cNvGrpSpPr/>
              <p:nvPr/>
            </p:nvGrpSpPr>
            <p:grpSpPr>
              <a:xfrm>
                <a:off x="5279040" y="1678680"/>
                <a:ext cx="1607040" cy="912960"/>
                <a:chOff x="5279040" y="1678680"/>
                <a:chExt cx="1607040" cy="912960"/>
              </a:xfrm>
            </p:grpSpPr>
            <p:sp>
              <p:nvSpPr>
                <p:cNvPr id="101" name="Rectangle 47"/>
                <p:cNvSpPr/>
                <p:nvPr/>
              </p:nvSpPr>
              <p:spPr>
                <a:xfrm>
                  <a:off x="5287680" y="1686600"/>
                  <a:ext cx="1589400" cy="9046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  <a:ea typeface="Arial"/>
                    </a:rPr>
                    <a:t>SPORTS</a:t>
                  </a:r>
                  <a:endParaRPr b="0" lang="en-US" sz="20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2" name="Rectangle 48"/>
                <p:cNvSpPr/>
                <p:nvPr/>
              </p:nvSpPr>
              <p:spPr>
                <a:xfrm>
                  <a:off x="5279040" y="1678680"/>
                  <a:ext cx="1607040" cy="9129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3" name="Group 49"/>
              <p:cNvGrpSpPr/>
              <p:nvPr/>
            </p:nvGrpSpPr>
            <p:grpSpPr>
              <a:xfrm>
                <a:off x="6886440" y="1678680"/>
                <a:ext cx="1651320" cy="920880"/>
                <a:chOff x="6886440" y="1678680"/>
                <a:chExt cx="1651320" cy="920880"/>
              </a:xfrm>
            </p:grpSpPr>
            <p:sp>
              <p:nvSpPr>
                <p:cNvPr id="104" name="Rectangle 50"/>
                <p:cNvSpPr/>
                <p:nvPr/>
              </p:nvSpPr>
              <p:spPr>
                <a:xfrm>
                  <a:off x="6886440" y="1678680"/>
                  <a:ext cx="1651320" cy="9208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POT-POURRI</a:t>
                  </a:r>
                  <a:r>
                    <a:rPr b="0" lang="en-US" sz="2400" spc="-1" strike="noStrike">
                      <a:solidFill>
                        <a:srgbClr val="ffff00"/>
                      </a:solidFill>
                      <a:latin typeface="Gyparody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5" name="Rectangle 51"/>
                <p:cNvSpPr/>
                <p:nvPr/>
              </p:nvSpPr>
              <p:spPr>
                <a:xfrm>
                  <a:off x="6886440" y="1678680"/>
                  <a:ext cx="1651320" cy="9208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6" name="Group 52"/>
              <p:cNvGrpSpPr/>
              <p:nvPr/>
            </p:nvGrpSpPr>
            <p:grpSpPr>
              <a:xfrm>
                <a:off x="604440" y="2599560"/>
                <a:ext cx="1497240" cy="701640"/>
                <a:chOff x="604440" y="2599560"/>
                <a:chExt cx="1497240" cy="701640"/>
              </a:xfrm>
            </p:grpSpPr>
            <p:sp>
              <p:nvSpPr>
                <p:cNvPr id="107" name="Rectangle 53"/>
                <p:cNvSpPr/>
                <p:nvPr/>
              </p:nvSpPr>
              <p:spPr>
                <a:xfrm>
                  <a:off x="613080" y="260784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cc99"/>
                      </a:solidFill>
                      <a:latin typeface="Arial"/>
                      <a:ea typeface="Arial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08" name="Rectangle 54"/>
                <p:cNvSpPr/>
                <p:nvPr/>
              </p:nvSpPr>
              <p:spPr>
                <a:xfrm>
                  <a:off x="604440" y="25995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09" name="Group 55"/>
              <p:cNvGrpSpPr/>
              <p:nvPr/>
            </p:nvGrpSpPr>
            <p:grpSpPr>
              <a:xfrm>
                <a:off x="2101680" y="2599560"/>
                <a:ext cx="1533960" cy="701640"/>
                <a:chOff x="2101680" y="2599560"/>
                <a:chExt cx="1533960" cy="701640"/>
              </a:xfrm>
            </p:grpSpPr>
            <p:sp>
              <p:nvSpPr>
                <p:cNvPr id="110" name="Rectangle 56"/>
                <p:cNvSpPr/>
                <p:nvPr/>
              </p:nvSpPr>
              <p:spPr>
                <a:xfrm>
                  <a:off x="2110320" y="260784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1" name="Rectangle 57"/>
                <p:cNvSpPr/>
                <p:nvPr/>
              </p:nvSpPr>
              <p:spPr>
                <a:xfrm>
                  <a:off x="2101680" y="25995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2" name="Group 58"/>
              <p:cNvGrpSpPr/>
              <p:nvPr/>
            </p:nvGrpSpPr>
            <p:grpSpPr>
              <a:xfrm>
                <a:off x="3636000" y="2599560"/>
                <a:ext cx="1642680" cy="701640"/>
                <a:chOff x="3636000" y="2599560"/>
                <a:chExt cx="1642680" cy="701640"/>
              </a:xfrm>
            </p:grpSpPr>
            <p:sp>
              <p:nvSpPr>
                <p:cNvPr id="113" name="Rectangle 59"/>
                <p:cNvSpPr/>
                <p:nvPr/>
              </p:nvSpPr>
              <p:spPr>
                <a:xfrm>
                  <a:off x="3644640" y="260784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4" name="Rectangle 60"/>
                <p:cNvSpPr/>
                <p:nvPr/>
              </p:nvSpPr>
              <p:spPr>
                <a:xfrm>
                  <a:off x="3636000" y="25995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5" name="Group 61"/>
              <p:cNvGrpSpPr/>
              <p:nvPr/>
            </p:nvGrpSpPr>
            <p:grpSpPr>
              <a:xfrm>
                <a:off x="5279040" y="2599560"/>
                <a:ext cx="1607040" cy="701640"/>
                <a:chOff x="5279040" y="2599560"/>
                <a:chExt cx="1607040" cy="701640"/>
              </a:xfrm>
            </p:grpSpPr>
            <p:sp>
              <p:nvSpPr>
                <p:cNvPr id="116" name="Rectangle 62"/>
                <p:cNvSpPr/>
                <p:nvPr/>
              </p:nvSpPr>
              <p:spPr>
                <a:xfrm>
                  <a:off x="5287680" y="260784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3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17" name="Rectangle 63"/>
                <p:cNvSpPr/>
                <p:nvPr/>
              </p:nvSpPr>
              <p:spPr>
                <a:xfrm>
                  <a:off x="5279040" y="25995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18" name="Group 64"/>
              <p:cNvGrpSpPr/>
              <p:nvPr/>
            </p:nvGrpSpPr>
            <p:grpSpPr>
              <a:xfrm>
                <a:off x="6886440" y="2599560"/>
                <a:ext cx="1651320" cy="710280"/>
                <a:chOff x="6886440" y="2599560"/>
                <a:chExt cx="1651320" cy="710280"/>
              </a:xfrm>
            </p:grpSpPr>
            <p:sp>
              <p:nvSpPr>
                <p:cNvPr id="119" name="Rectangle 65"/>
                <p:cNvSpPr/>
                <p:nvPr/>
              </p:nvSpPr>
              <p:spPr>
                <a:xfrm>
                  <a:off x="6886440" y="25995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4" action="ppaction://hlinksldjump"/>
                    </a:rPr>
                    <a:t>2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0" name="Rectangle 66"/>
                <p:cNvSpPr/>
                <p:nvPr/>
              </p:nvSpPr>
              <p:spPr>
                <a:xfrm>
                  <a:off x="6886440" y="25995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1" name="Group 67"/>
              <p:cNvGrpSpPr/>
              <p:nvPr/>
            </p:nvGrpSpPr>
            <p:grpSpPr>
              <a:xfrm>
                <a:off x="604440" y="3309840"/>
                <a:ext cx="1497240" cy="701280"/>
                <a:chOff x="604440" y="3309840"/>
                <a:chExt cx="1497240" cy="701280"/>
              </a:xfrm>
            </p:grpSpPr>
            <p:sp>
              <p:nvSpPr>
                <p:cNvPr id="122" name="Rectangle 68"/>
                <p:cNvSpPr/>
                <p:nvPr/>
              </p:nvSpPr>
              <p:spPr>
                <a:xfrm>
                  <a:off x="613080" y="331776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5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3" name="Rectangle 69"/>
                <p:cNvSpPr/>
                <p:nvPr/>
              </p:nvSpPr>
              <p:spPr>
                <a:xfrm>
                  <a:off x="604440" y="3309840"/>
                  <a:ext cx="149724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4" name="Group 70"/>
              <p:cNvGrpSpPr/>
              <p:nvPr/>
            </p:nvGrpSpPr>
            <p:grpSpPr>
              <a:xfrm>
                <a:off x="2101680" y="3309840"/>
                <a:ext cx="1533960" cy="701280"/>
                <a:chOff x="2101680" y="3309840"/>
                <a:chExt cx="1533960" cy="701280"/>
              </a:xfrm>
            </p:grpSpPr>
            <p:sp>
              <p:nvSpPr>
                <p:cNvPr id="125" name="Rectangle 71"/>
                <p:cNvSpPr/>
                <p:nvPr/>
              </p:nvSpPr>
              <p:spPr>
                <a:xfrm>
                  <a:off x="2110320" y="331776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6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6" name="Rectangle 72"/>
                <p:cNvSpPr/>
                <p:nvPr/>
              </p:nvSpPr>
              <p:spPr>
                <a:xfrm>
                  <a:off x="2101680" y="3309840"/>
                  <a:ext cx="153396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27" name="Group 73"/>
              <p:cNvGrpSpPr/>
              <p:nvPr/>
            </p:nvGrpSpPr>
            <p:grpSpPr>
              <a:xfrm>
                <a:off x="3636000" y="3309840"/>
                <a:ext cx="1642680" cy="701280"/>
                <a:chOff x="3636000" y="3309840"/>
                <a:chExt cx="1642680" cy="701280"/>
              </a:xfrm>
            </p:grpSpPr>
            <p:sp>
              <p:nvSpPr>
                <p:cNvPr id="128" name="Rectangle 74"/>
                <p:cNvSpPr/>
                <p:nvPr/>
              </p:nvSpPr>
              <p:spPr>
                <a:xfrm>
                  <a:off x="3644640" y="331776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7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29" name="Rectangle 75"/>
                <p:cNvSpPr/>
                <p:nvPr/>
              </p:nvSpPr>
              <p:spPr>
                <a:xfrm>
                  <a:off x="3636000" y="3309840"/>
                  <a:ext cx="164268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0" name="Group 76"/>
              <p:cNvGrpSpPr/>
              <p:nvPr/>
            </p:nvGrpSpPr>
            <p:grpSpPr>
              <a:xfrm>
                <a:off x="5279040" y="3309840"/>
                <a:ext cx="1607040" cy="701280"/>
                <a:chOff x="5279040" y="3309840"/>
                <a:chExt cx="1607040" cy="701280"/>
              </a:xfrm>
            </p:grpSpPr>
            <p:sp>
              <p:nvSpPr>
                <p:cNvPr id="131" name="Rectangle 77"/>
                <p:cNvSpPr/>
                <p:nvPr/>
              </p:nvSpPr>
              <p:spPr>
                <a:xfrm>
                  <a:off x="5287680" y="331776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8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2" name="Rectangle 78"/>
                <p:cNvSpPr/>
                <p:nvPr/>
              </p:nvSpPr>
              <p:spPr>
                <a:xfrm>
                  <a:off x="5279040" y="3309840"/>
                  <a:ext cx="1607040" cy="701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3" name="Group 79"/>
              <p:cNvGrpSpPr/>
              <p:nvPr/>
            </p:nvGrpSpPr>
            <p:grpSpPr>
              <a:xfrm>
                <a:off x="6886440" y="3309840"/>
                <a:ext cx="1651320" cy="709920"/>
                <a:chOff x="6886440" y="3309840"/>
                <a:chExt cx="1651320" cy="709920"/>
              </a:xfrm>
            </p:grpSpPr>
            <p:sp>
              <p:nvSpPr>
                <p:cNvPr id="134" name="Rectangle 80"/>
                <p:cNvSpPr/>
                <p:nvPr/>
              </p:nvSpPr>
              <p:spPr>
                <a:xfrm>
                  <a:off x="6886440" y="330984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9" action="ppaction://hlinksldjump"/>
                    </a:rPr>
                    <a:t>4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5" name="Rectangle 81"/>
                <p:cNvSpPr/>
                <p:nvPr/>
              </p:nvSpPr>
              <p:spPr>
                <a:xfrm>
                  <a:off x="6886440" y="330984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6" name="Group 82"/>
              <p:cNvGrpSpPr/>
              <p:nvPr/>
            </p:nvGrpSpPr>
            <p:grpSpPr>
              <a:xfrm>
                <a:off x="604440" y="4019760"/>
                <a:ext cx="1497240" cy="701640"/>
                <a:chOff x="604440" y="4019760"/>
                <a:chExt cx="1497240" cy="701640"/>
              </a:xfrm>
            </p:grpSpPr>
            <p:sp>
              <p:nvSpPr>
                <p:cNvPr id="137" name="Rectangle 83"/>
                <p:cNvSpPr/>
                <p:nvPr/>
              </p:nvSpPr>
              <p:spPr>
                <a:xfrm>
                  <a:off x="613080" y="4027680"/>
                  <a:ext cx="147960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0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38" name="Rectangle 84"/>
                <p:cNvSpPr/>
                <p:nvPr/>
              </p:nvSpPr>
              <p:spPr>
                <a:xfrm>
                  <a:off x="604440" y="40197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39" name="Group 85"/>
              <p:cNvGrpSpPr/>
              <p:nvPr/>
            </p:nvGrpSpPr>
            <p:grpSpPr>
              <a:xfrm>
                <a:off x="2101680" y="4019760"/>
                <a:ext cx="1533960" cy="701640"/>
                <a:chOff x="2101680" y="4019760"/>
                <a:chExt cx="1533960" cy="701640"/>
              </a:xfrm>
            </p:grpSpPr>
            <p:sp>
              <p:nvSpPr>
                <p:cNvPr id="140" name="Rectangle 86"/>
                <p:cNvSpPr/>
                <p:nvPr/>
              </p:nvSpPr>
              <p:spPr>
                <a:xfrm>
                  <a:off x="2110320" y="4027680"/>
                  <a:ext cx="151632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1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2101680" y="40197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2" name="Group 88"/>
              <p:cNvGrpSpPr/>
              <p:nvPr/>
            </p:nvGrpSpPr>
            <p:grpSpPr>
              <a:xfrm>
                <a:off x="3636000" y="4019760"/>
                <a:ext cx="1642680" cy="701640"/>
                <a:chOff x="3636000" y="4019760"/>
                <a:chExt cx="1642680" cy="701640"/>
              </a:xfrm>
            </p:grpSpPr>
            <p:sp>
              <p:nvSpPr>
                <p:cNvPr id="143" name="Rectangle 89"/>
                <p:cNvSpPr/>
                <p:nvPr/>
              </p:nvSpPr>
              <p:spPr>
                <a:xfrm>
                  <a:off x="3644640" y="4027680"/>
                  <a:ext cx="162468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2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4" name="Rectangle 90"/>
                <p:cNvSpPr/>
                <p:nvPr/>
              </p:nvSpPr>
              <p:spPr>
                <a:xfrm>
                  <a:off x="3636000" y="40197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5" name="Group 91"/>
              <p:cNvGrpSpPr/>
              <p:nvPr/>
            </p:nvGrpSpPr>
            <p:grpSpPr>
              <a:xfrm>
                <a:off x="5279040" y="4019760"/>
                <a:ext cx="1607040" cy="701640"/>
                <a:chOff x="5279040" y="4019760"/>
                <a:chExt cx="1607040" cy="701640"/>
              </a:xfrm>
            </p:grpSpPr>
            <p:sp>
              <p:nvSpPr>
                <p:cNvPr id="146" name="Rectangle 92"/>
                <p:cNvSpPr/>
                <p:nvPr/>
              </p:nvSpPr>
              <p:spPr>
                <a:xfrm>
                  <a:off x="5287680" y="4027680"/>
                  <a:ext cx="1589400" cy="69336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3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47" name="Rectangle 93"/>
                <p:cNvSpPr/>
                <p:nvPr/>
              </p:nvSpPr>
              <p:spPr>
                <a:xfrm>
                  <a:off x="5279040" y="40197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6886440" y="4019760"/>
                <a:ext cx="1651320" cy="709920"/>
                <a:chOff x="6886440" y="4019760"/>
                <a:chExt cx="1651320" cy="709920"/>
              </a:xfrm>
            </p:grpSpPr>
            <p:sp>
              <p:nvSpPr>
                <p:cNvPr id="149" name="Rectangle 95"/>
                <p:cNvSpPr/>
                <p:nvPr/>
              </p:nvSpPr>
              <p:spPr>
                <a:xfrm>
                  <a:off x="6886440" y="401976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4" action="ppaction://hlinksldjump"/>
                    </a:rPr>
                    <a:t>6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0" name="Rectangle 96"/>
                <p:cNvSpPr/>
                <p:nvPr/>
              </p:nvSpPr>
              <p:spPr>
                <a:xfrm>
                  <a:off x="6886440" y="401976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1" name="Group 97"/>
              <p:cNvGrpSpPr/>
              <p:nvPr/>
            </p:nvGrpSpPr>
            <p:grpSpPr>
              <a:xfrm>
                <a:off x="604440" y="4729680"/>
                <a:ext cx="1497240" cy="701640"/>
                <a:chOff x="604440" y="4729680"/>
                <a:chExt cx="1497240" cy="701640"/>
              </a:xfrm>
            </p:grpSpPr>
            <p:sp>
              <p:nvSpPr>
                <p:cNvPr id="152" name="Rectangle 98"/>
                <p:cNvSpPr/>
                <p:nvPr/>
              </p:nvSpPr>
              <p:spPr>
                <a:xfrm>
                  <a:off x="613080" y="473796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5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3" name="Rectangle 99"/>
                <p:cNvSpPr/>
                <p:nvPr/>
              </p:nvSpPr>
              <p:spPr>
                <a:xfrm>
                  <a:off x="604440" y="472968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4" name="Group 100"/>
              <p:cNvGrpSpPr/>
              <p:nvPr/>
            </p:nvGrpSpPr>
            <p:grpSpPr>
              <a:xfrm>
                <a:off x="2101680" y="4729680"/>
                <a:ext cx="1533960" cy="701640"/>
                <a:chOff x="2101680" y="4729680"/>
                <a:chExt cx="1533960" cy="701640"/>
              </a:xfrm>
            </p:grpSpPr>
            <p:sp>
              <p:nvSpPr>
                <p:cNvPr id="155" name="Rectangle 101"/>
                <p:cNvSpPr/>
                <p:nvPr/>
              </p:nvSpPr>
              <p:spPr>
                <a:xfrm>
                  <a:off x="2110320" y="473796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6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6" name="Rectangle 102"/>
                <p:cNvSpPr/>
                <p:nvPr/>
              </p:nvSpPr>
              <p:spPr>
                <a:xfrm>
                  <a:off x="2101680" y="472968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57" name="Group 103"/>
              <p:cNvGrpSpPr/>
              <p:nvPr/>
            </p:nvGrpSpPr>
            <p:grpSpPr>
              <a:xfrm>
                <a:off x="3636000" y="4729680"/>
                <a:ext cx="1642680" cy="701640"/>
                <a:chOff x="3636000" y="4729680"/>
                <a:chExt cx="1642680" cy="701640"/>
              </a:xfrm>
            </p:grpSpPr>
            <p:sp>
              <p:nvSpPr>
                <p:cNvPr id="158" name="Rectangle 104"/>
                <p:cNvSpPr/>
                <p:nvPr/>
              </p:nvSpPr>
              <p:spPr>
                <a:xfrm>
                  <a:off x="3644640" y="473796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7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59" name="Rectangle 105"/>
                <p:cNvSpPr/>
                <p:nvPr/>
              </p:nvSpPr>
              <p:spPr>
                <a:xfrm>
                  <a:off x="3636000" y="472968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0" name="Group 106"/>
              <p:cNvGrpSpPr/>
              <p:nvPr/>
            </p:nvGrpSpPr>
            <p:grpSpPr>
              <a:xfrm>
                <a:off x="5279040" y="4729680"/>
                <a:ext cx="1607040" cy="701640"/>
                <a:chOff x="5279040" y="4729680"/>
                <a:chExt cx="1607040" cy="701640"/>
              </a:xfrm>
            </p:grpSpPr>
            <p:sp>
              <p:nvSpPr>
                <p:cNvPr id="161" name="Rectangle 107"/>
                <p:cNvSpPr/>
                <p:nvPr/>
              </p:nvSpPr>
              <p:spPr>
                <a:xfrm>
                  <a:off x="5287680" y="473796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8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2" name="Rectangle 108"/>
                <p:cNvSpPr/>
                <p:nvPr/>
              </p:nvSpPr>
              <p:spPr>
                <a:xfrm>
                  <a:off x="5279040" y="472968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3" name="Group 109"/>
              <p:cNvGrpSpPr/>
              <p:nvPr/>
            </p:nvGrpSpPr>
            <p:grpSpPr>
              <a:xfrm>
                <a:off x="6886440" y="4729680"/>
                <a:ext cx="1651320" cy="709920"/>
                <a:chOff x="6886440" y="4729680"/>
                <a:chExt cx="1651320" cy="709920"/>
              </a:xfrm>
            </p:grpSpPr>
            <p:sp>
              <p:nvSpPr>
                <p:cNvPr id="164" name="Rectangle 110"/>
                <p:cNvSpPr/>
                <p:nvPr/>
              </p:nvSpPr>
              <p:spPr>
                <a:xfrm>
                  <a:off x="6886440" y="472968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19" action="ppaction://hlinksldjump"/>
                    </a:rPr>
                    <a:t>8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5" name="Rectangle 111"/>
                <p:cNvSpPr/>
                <p:nvPr/>
              </p:nvSpPr>
              <p:spPr>
                <a:xfrm>
                  <a:off x="6886440" y="4729680"/>
                  <a:ext cx="1651320" cy="70992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6" name="Group 112"/>
              <p:cNvGrpSpPr/>
              <p:nvPr/>
            </p:nvGrpSpPr>
            <p:grpSpPr>
              <a:xfrm>
                <a:off x="604440" y="5439960"/>
                <a:ext cx="1497240" cy="701640"/>
                <a:chOff x="604440" y="5439960"/>
                <a:chExt cx="1497240" cy="701640"/>
              </a:xfrm>
            </p:grpSpPr>
            <p:sp>
              <p:nvSpPr>
                <p:cNvPr id="167" name="Rectangle 113"/>
                <p:cNvSpPr/>
                <p:nvPr/>
              </p:nvSpPr>
              <p:spPr>
                <a:xfrm>
                  <a:off x="613080" y="5448240"/>
                  <a:ext cx="14796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0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68" name="Rectangle 114"/>
                <p:cNvSpPr/>
                <p:nvPr/>
              </p:nvSpPr>
              <p:spPr>
                <a:xfrm>
                  <a:off x="604440" y="5439960"/>
                  <a:ext cx="14972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69" name="Group 115"/>
              <p:cNvGrpSpPr/>
              <p:nvPr/>
            </p:nvGrpSpPr>
            <p:grpSpPr>
              <a:xfrm>
                <a:off x="2101680" y="5439960"/>
                <a:ext cx="1533960" cy="701640"/>
                <a:chOff x="2101680" y="5439960"/>
                <a:chExt cx="1533960" cy="701640"/>
              </a:xfrm>
            </p:grpSpPr>
            <p:sp>
              <p:nvSpPr>
                <p:cNvPr id="170" name="Rectangle 116"/>
                <p:cNvSpPr/>
                <p:nvPr/>
              </p:nvSpPr>
              <p:spPr>
                <a:xfrm>
                  <a:off x="2110320" y="5448240"/>
                  <a:ext cx="151632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1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1" name="Rectangle 117"/>
                <p:cNvSpPr/>
                <p:nvPr/>
              </p:nvSpPr>
              <p:spPr>
                <a:xfrm>
                  <a:off x="2101680" y="5439960"/>
                  <a:ext cx="153396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2" name="Group 118"/>
              <p:cNvGrpSpPr/>
              <p:nvPr/>
            </p:nvGrpSpPr>
            <p:grpSpPr>
              <a:xfrm>
                <a:off x="3636000" y="5439960"/>
                <a:ext cx="1642680" cy="701640"/>
                <a:chOff x="3636000" y="5439960"/>
                <a:chExt cx="1642680" cy="701640"/>
              </a:xfrm>
            </p:grpSpPr>
            <p:sp>
              <p:nvSpPr>
                <p:cNvPr id="173" name="Rectangle 119"/>
                <p:cNvSpPr/>
                <p:nvPr/>
              </p:nvSpPr>
              <p:spPr>
                <a:xfrm>
                  <a:off x="3644640" y="5448240"/>
                  <a:ext cx="162468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2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4" name="Rectangle 120"/>
                <p:cNvSpPr/>
                <p:nvPr/>
              </p:nvSpPr>
              <p:spPr>
                <a:xfrm>
                  <a:off x="3636000" y="5439960"/>
                  <a:ext cx="164268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5" name="Group 121"/>
              <p:cNvGrpSpPr/>
              <p:nvPr/>
            </p:nvGrpSpPr>
            <p:grpSpPr>
              <a:xfrm>
                <a:off x="5279040" y="5439960"/>
                <a:ext cx="1607040" cy="701640"/>
                <a:chOff x="5279040" y="5439960"/>
                <a:chExt cx="1607040" cy="701640"/>
              </a:xfrm>
            </p:grpSpPr>
            <p:sp>
              <p:nvSpPr>
                <p:cNvPr id="176" name="Rectangle 122"/>
                <p:cNvSpPr/>
                <p:nvPr/>
              </p:nvSpPr>
              <p:spPr>
                <a:xfrm>
                  <a:off x="5287680" y="5448240"/>
                  <a:ext cx="1589400" cy="69300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3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77" name="Rectangle 123"/>
                <p:cNvSpPr/>
                <p:nvPr/>
              </p:nvSpPr>
              <p:spPr>
                <a:xfrm>
                  <a:off x="5279040" y="5439960"/>
                  <a:ext cx="1607040" cy="70164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  <p:grpSp>
            <p:nvGrpSpPr>
              <p:cNvPr id="178" name="Group 124"/>
              <p:cNvGrpSpPr/>
              <p:nvPr/>
            </p:nvGrpSpPr>
            <p:grpSpPr>
              <a:xfrm>
                <a:off x="6886440" y="5439960"/>
                <a:ext cx="1651320" cy="710280"/>
                <a:chOff x="6886440" y="5439960"/>
                <a:chExt cx="1651320" cy="710280"/>
              </a:xfrm>
            </p:grpSpPr>
            <p:sp>
              <p:nvSpPr>
                <p:cNvPr id="179" name="Rectangle 125"/>
                <p:cNvSpPr/>
                <p:nvPr/>
              </p:nvSpPr>
              <p:spPr>
                <a:xfrm>
                  <a:off x="6886440" y="54399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ccccff"/>
                      </a:solidFill>
                      <a:uFillTx/>
                      <a:latin typeface="Arial"/>
                      <a:ea typeface="Arial"/>
                      <a:hlinkClick r:id="rId24" action="ppaction://hlinksldjump"/>
                    </a:rPr>
                    <a:t>1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  <p:sp>
              <p:nvSpPr>
                <p:cNvPr id="180" name="Rectangle 126"/>
                <p:cNvSpPr/>
                <p:nvPr/>
              </p:nvSpPr>
              <p:spPr>
                <a:xfrm>
                  <a:off x="6886440" y="5439960"/>
                  <a:ext cx="1651320" cy="710280"/>
                </a:xfrm>
                <a:prstGeom prst="rect">
                  <a:avLst/>
                </a:pr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Gyparody"/>
                  </a:endParaRPr>
                </a:p>
              </p:txBody>
            </p:sp>
          </p:grpSp>
        </p:grpSp>
        <p:sp>
          <p:nvSpPr>
            <p:cNvPr id="181" name="Rectangle 127"/>
            <p:cNvSpPr/>
            <p:nvPr/>
          </p:nvSpPr>
          <p:spPr>
            <a:xfrm>
              <a:off x="600120" y="1674720"/>
              <a:ext cx="7942320" cy="4479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yparody"/>
              </a:endParaRPr>
            </a:p>
          </p:txBody>
        </p:sp>
      </p:grpSp>
      <p:sp>
        <p:nvSpPr>
          <p:cNvPr id="182" name="WordArt 128"/>
          <p:cNvSpPr txBox="1"/>
          <p:nvPr/>
        </p:nvSpPr>
        <p:spPr>
          <a:xfrm>
            <a:off x="7693200" y="6305400"/>
            <a:ext cx="1166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Gyparody"/>
              </a:rPr>
              <a:t>Scor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Gyparody"/>
              <a:ea typeface="Gyparody"/>
            </a:endParaRPr>
          </a:p>
        </p:txBody>
      </p:sp>
      <p:sp>
        <p:nvSpPr>
          <p:cNvPr id="183" name="WordArt 129"/>
          <p:cNvSpPr txBox="1"/>
          <p:nvPr/>
        </p:nvSpPr>
        <p:spPr>
          <a:xfrm rot="279000">
            <a:off x="1819080" y="696960"/>
            <a:ext cx="5402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Gyparody"/>
              </a:rPr>
              <a:t>Trivi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Gyparody"/>
              <a:ea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46040" y="3846240"/>
            <a:ext cx="8088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09656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1976 gangster movie (where the gangsters are children), Scott Baio starred as the main character who was in a power battle between Fat Sam and Dandy D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TPChart"/>
          <p:cNvGraphicFramePr/>
          <p:nvPr/>
        </p:nvGraphicFramePr>
        <p:xfrm>
          <a:off x="878040" y="3137040"/>
          <a:ext cx="658944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3137040"/>
                    <a:ext cx="65894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25400" y="3276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ugsy M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es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ck Trac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gels with Dirty 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386388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legendary band started their music career in 196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TPChart"/>
          <p:cNvGraphicFramePr/>
          <p:nvPr/>
        </p:nvGraphicFramePr>
        <p:xfrm>
          <a:off x="965160" y="1994040"/>
          <a:ext cx="635004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1994040"/>
                    <a:ext cx="635004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54000" y="2133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oll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rth, Wind &amp;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88880" y="3852360"/>
            <a:ext cx="8197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famous structure was built in 196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TPChart"/>
          <p:cNvGraphicFramePr/>
          <p:nvPr/>
        </p:nvGraphicFramePr>
        <p:xfrm>
          <a:off x="1038240" y="2684520"/>
          <a:ext cx="666108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684520"/>
                    <a:ext cx="66610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776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erlin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ackinac 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t. Louis 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ast Audito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87440" y="384300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TPChart"/>
          <p:cNvGraphicFramePr/>
          <p:nvPr/>
        </p:nvGraphicFramePr>
        <p:xfrm>
          <a:off x="1041480" y="2590920"/>
          <a:ext cx="6350040" cy="11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90920"/>
                    <a:ext cx="635004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29960" y="28954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vi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75920" y="3844440"/>
            <a:ext cx="8148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488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this 1986 movie, Maverick was a pilot who moved up in the ranks and was sent to a prestigious naval flying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" name="TPChart"/>
          <p:cNvGraphicFramePr/>
          <p:nvPr/>
        </p:nvGraphicFramePr>
        <p:xfrm>
          <a:off x="950760" y="2984400"/>
          <a:ext cx="63676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984400"/>
                    <a:ext cx="63676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ron Ea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lestar Galac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p G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m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0680" y="3860280"/>
            <a:ext cx="8129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04360" y="3847680"/>
            <a:ext cx="80787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TPChart"/>
          <p:cNvGraphicFramePr/>
          <p:nvPr/>
        </p:nvGraphicFramePr>
        <p:xfrm>
          <a:off x="530280" y="1828800"/>
          <a:ext cx="75769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828800"/>
                    <a:ext cx="75769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1971, this famous, and often controversial, television show debut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TPChart"/>
          <p:cNvGraphicFramePr/>
          <p:nvPr/>
        </p:nvGraphicFramePr>
        <p:xfrm>
          <a:off x="987480" y="2514600"/>
          <a:ext cx="67118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514600"/>
                    <a:ext cx="67118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25400" y="26668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in the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s of Our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rady B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87080" y="3854160"/>
            <a:ext cx="8155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944640"/>
            <a:ext cx="792468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artist won the Grammy for Record of the Year and Song of the Year in 198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TPChart"/>
          <p:cNvGraphicFramePr/>
          <p:nvPr/>
        </p:nvGraphicFramePr>
        <p:xfrm>
          <a:off x="987480" y="2603520"/>
          <a:ext cx="81104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603520"/>
                    <a:ext cx="81104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7768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ton 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 Bene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ristopher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96800" y="3796920"/>
            <a:ext cx="8121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Ques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TPChart"/>
          <p:cNvGraphicFramePr/>
          <p:nvPr/>
        </p:nvGraphicFramePr>
        <p:xfrm>
          <a:off x="1496880" y="3048120"/>
          <a:ext cx="53643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3048120"/>
                    <a:ext cx="53643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11200" y="327636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1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usic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90320" y="3846240"/>
            <a:ext cx="8127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group won the best new artist Grammy in 197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TPChart"/>
          <p:cNvGraphicFramePr/>
          <p:nvPr/>
        </p:nvGraphicFramePr>
        <p:xfrm>
          <a:off x="961920" y="2603520"/>
          <a:ext cx="643248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2603520"/>
                    <a:ext cx="643248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01720" y="2742840"/>
            <a:ext cx="668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Bee G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Carp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pectrum Health Ro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W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46120" y="3836520"/>
            <a:ext cx="8075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graphicFrame>
        <p:nvGraphicFramePr>
          <p:cNvPr id="188" name="TPChart"/>
          <p:cNvGraphicFramePr/>
          <p:nvPr/>
        </p:nvGraphicFramePr>
        <p:xfrm>
          <a:off x="533520" y="1447920"/>
          <a:ext cx="647676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647676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lle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lu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TPChart"/>
          <p:cNvGraphicFramePr/>
          <p:nvPr/>
        </p:nvGraphicFramePr>
        <p:xfrm>
          <a:off x="503280" y="1917720"/>
          <a:ext cx="80359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917720"/>
                    <a:ext cx="80359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is the name of the eldest child on The Cosby Sh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TPChart"/>
          <p:cNvGraphicFramePr/>
          <p:nvPr/>
        </p:nvGraphicFramePr>
        <p:xfrm>
          <a:off x="1114560" y="2527200"/>
          <a:ext cx="60512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527200"/>
                    <a:ext cx="60512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77680" y="2666880"/>
            <a:ext cx="5537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ne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n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31360" y="383868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United States Supreme Court reached this landmark decision in 196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TPChart"/>
          <p:cNvGraphicFramePr/>
          <p:nvPr/>
        </p:nvGraphicFramePr>
        <p:xfrm>
          <a:off x="493560" y="2819520"/>
          <a:ext cx="7817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2819520"/>
                    <a:ext cx="7817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wn v. Board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oe v. W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r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. Mary’s Medical Center v. Riets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66560" y="3836520"/>
            <a:ext cx="8166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TPChart"/>
          <p:cNvGraphicFramePr/>
          <p:nvPr/>
        </p:nvGraphicFramePr>
        <p:xfrm>
          <a:off x="888840" y="2362320"/>
          <a:ext cx="497844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362320"/>
                    <a:ext cx="4978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01360" y="2742840"/>
            <a:ext cx="5537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8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65120" y="3858840"/>
            <a:ext cx="8167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TPChart"/>
          <p:cNvGraphicFramePr/>
          <p:nvPr/>
        </p:nvGraphicFramePr>
        <p:xfrm>
          <a:off x="581040" y="1841400"/>
          <a:ext cx="750096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841400"/>
                    <a:ext cx="750096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0202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classic show made its debut in 1961 and ended its television run in 196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TPChart"/>
          <p:cNvGraphicFramePr/>
          <p:nvPr/>
        </p:nvGraphicFramePr>
        <p:xfrm>
          <a:off x="798480" y="2743200"/>
          <a:ext cx="8121600" cy="24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743200"/>
                    <a:ext cx="812160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25760" y="2895480"/>
            <a:ext cx="66801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Dick Van Dyke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ther Knows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ave it to Bea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pectrum Health Variety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791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Gyparody"/>
              </a:rPr>
              <a:t>Team Scor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2225520"/>
          <a:ext cx="8458200" cy="4267440"/>
        </p:xfrm>
        <a:graphic>
          <a:graphicData uri="http://schemas.openxmlformats.org/drawingml/2006/table">
            <a:tbl>
              <a:tblPr/>
              <a:tblGrid>
                <a:gridCol w="1208160"/>
                <a:gridCol w="3021120"/>
                <a:gridCol w="1207800"/>
                <a:gridCol w="302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635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65.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51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37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528.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Gyparody"/>
                        </a:rPr>
                        <a:t>Team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yparod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9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ort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76280" y="3858840"/>
            <a:ext cx="8113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er question text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TPChart"/>
          <p:cNvGraphicFramePr/>
          <p:nvPr/>
        </p:nvGraphicFramePr>
        <p:xfrm>
          <a:off x="657360" y="2070000"/>
          <a:ext cx="711972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070000"/>
                    <a:ext cx="7119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25760" y="22096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228600" y="609588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TPChart"/>
          <p:cNvGraphicFramePr/>
          <p:nvPr/>
        </p:nvGraphicFramePr>
        <p:xfrm>
          <a:off x="431640" y="2070000"/>
          <a:ext cx="703584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2070000"/>
                    <a:ext cx="703584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01720" y="2209680"/>
            <a:ext cx="6222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e 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ristin, Sue Ellen’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ucy E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spcAft>
                <a:spcPts val="11"/>
              </a:spcAft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m E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28600" y="6248520"/>
            <a:ext cx="2971800" cy="457200"/>
          </a:xfrm>
          <a:prstGeom prst="ellipse">
            <a:avLst/>
          </a:prstGeom>
          <a:solidFill>
            <a:srgbClr val="0000cc"/>
          </a:soli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yparody"/>
              </a:rPr>
              <a:t>Category Selection</a:t>
            </a:r>
            <a:endParaRPr b="0" lang="en-US" sz="2000" spc="-1" strike="noStrike">
              <a:solidFill>
                <a:srgbClr val="ffffff"/>
              </a:solidFill>
              <a:latin typeface="Gyparo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1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tpourri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65120" y="3843000"/>
            <a:ext cx="8159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49:47Z</dcterms:created>
  <dc:creator>Turning Technologies, LLC</dc:creator>
  <dc:description/>
  <dc:language>en-US</dc:language>
  <cp:lastModifiedBy> </cp:lastModifiedBy>
  <dcterms:modified xsi:type="dcterms:W3CDTF">2009-02-02T18:45:38Z</dcterms:modified>
  <cp:revision>46</cp:revision>
  <dc:subject/>
  <dc:title>Slide 1</dc:title>
</cp:coreProperties>
</file>